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14E-91E1-4FD6-B9BC-FB8BA3EA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DA4-A5BC-404A-B6E9-98655C1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47E-F431-4609-B6AF-657A1333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CEE-9725-47FA-BE0D-078442CB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B00-FB49-4A7E-B872-65EE4745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F0D-3E6C-4389-B9BD-5FE7FE3A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9F9-3827-45A9-9328-DF91A9A1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24F-1350-4EF1-B806-98E179A7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CE9-52D3-4A66-9B62-BA8EBA55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B55-32D2-4BD6-9C4E-E4E7745B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2B0-4DB6-4626-B1CD-A5B213B0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273-9B55-49EF-8733-3887185A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9ED-E700-4EFF-9618-FD52FAC0C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742" r="0" b="0"/>
          <a:stretch/>
        </p:blipFill>
        <p:spPr>
          <a:xfrm>
            <a:off x="-3816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6281640"/>
            <a:ext cx="1981080" cy="500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HelveticaNeueLT Std"/>
              </a:rPr>
              <a:t>SUB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HelveticaNeue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HelveticaNeueLT Std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24480" y="6310440"/>
            <a:ext cx="1219320" cy="42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23268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96080" y="6324480"/>
            <a:ext cx="1295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3:07:35Z</dcterms:created>
  <dc:creator>mkilmurry</dc:creator>
  <dc:description/>
  <dc:language>en-US</dc:language>
  <cp:lastModifiedBy>mkilmurry</cp:lastModifiedBy>
  <dcterms:modified xsi:type="dcterms:W3CDTF">2010-03-24T03:39:02Z</dcterms:modified>
  <cp:revision>2</cp:revision>
  <dc:subject/>
  <dc:title>Slide 1</dc:title>
</cp:coreProperties>
</file>